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9.gif" ContentType="image/gif"/>
  <Override PartName="/ppt/media/image19.png" ContentType="image/png"/>
  <Override PartName="/ppt/media/image22.wmf" ContentType="image/x-wmf"/>
  <Override PartName="/ppt/media/image4.png" ContentType="image/png"/>
  <Override PartName="/ppt/media/image12.wmf" ContentType="image/x-wmf"/>
  <Override PartName="/ppt/media/image25.png" ContentType="image/png"/>
  <Override PartName="/ppt/media/image32.png" ContentType="image/png"/>
  <Override PartName="/ppt/media/image2.png" ContentType="image/png"/>
  <Override PartName="/ppt/media/image13.gif" ContentType="image/gif"/>
  <Override PartName="/ppt/media/image27.png" ContentType="image/png"/>
  <Override PartName="/ppt/media/image30.wmf" ContentType="image/x-wmf"/>
  <Override PartName="/ppt/media/image31.png" ContentType="image/png"/>
  <Override PartName="/ppt/media/image6.png" ContentType="image/png"/>
  <Override PartName="/ppt/media/image2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3.jpeg" ContentType="image/jpeg"/>
  <Override PartName="/ppt/media/image24.jpeg" ContentType="image/jpeg"/>
  <Override PartName="/ppt/media/image10.wmf" ContentType="image/x-wmf"/>
  <Override PartName="/ppt/media/image14.gif" ContentType="image/gif"/>
  <Override PartName="/ppt/media/image15.jpeg" ContentType="image/jpeg"/>
  <Override PartName="/ppt/media/image26.wmf" ContentType="image/x-wmf"/>
  <Override PartName="/ppt/media/image16.wmf" ContentType="image/x-wmf"/>
  <Override PartName="/ppt/media/image17.wmf" ContentType="image/x-wmf"/>
  <Override PartName="/ppt/media/image18.jpeg" ContentType="image/jpeg"/>
  <Override PartName="/ppt/media/image2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56A-24E3-4D1A-B4DD-08AAB589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DDC-188A-485A-B0F0-514B90E2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FA2-8C77-4254-A746-B5316A43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B9C-5B1E-4D1E-8277-F7AB31E9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432-CEAB-4027-BE73-D9213C57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38F3-7596-4415-AA3B-5C409B3A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ED3-0AD2-49DF-B7BD-2AFF6594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BB2-2F4C-440C-A97A-5E47C307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9E1-C74F-4B57-AEB6-E1DE240E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30E-726E-42AB-AF40-D06CCA99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716-41DA-4971-8C9F-EC19B638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87F-B03A-4E41-B49C-535C9311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45E0-9AD8-4384-AE89-D1F1D3A73A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.xml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76360" y="404640"/>
            <a:ext cx="6264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а по развитию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ских объединен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3141720"/>
            <a:ext cx="6480000" cy="23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66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Дорога к успеху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66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95640" y="6308640"/>
            <a:ext cx="43210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effectLst>
                  <a:outerShdw dist="40186" dir="1096358" blurRad="0" rotWithShape="0">
                    <a:srgbClr val="00cc99"/>
                  </a:outerShdw>
                </a:effectLst>
                <a:latin typeface="Arial"/>
              </a:rPr>
              <a:t>МОУ СОШ п. АГИРИШ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cc00">
                  <a:alpha val="50000"/>
                </a:srgbClr>
              </a:solidFill>
              <a:effectLst>
                <a:outerShdw dist="40186" dir="1096358" blurRad="0" rotWithShape="0">
                  <a:srgbClr val="00cc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15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155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115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115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547640" y="260280"/>
            <a:ext cx="61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жидаемые результаты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2000" y="1341360"/>
            <a:ext cx="898200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усвоение понятий. связанных с успехом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773360"/>
            <a:ext cx="8964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умение ребят анализировать собственную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чность, свой коллектив и создава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и собственные ситуации успеха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2997360"/>
            <a:ext cx="91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появление лидеров в классах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умение ребят строить отношения в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лективе, вести диалог со сверстниками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4076640"/>
            <a:ext cx="9144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действующие органы самоуправления во всех классах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4508640"/>
            <a:ext cx="914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успешно действующий КАСта "Молодежный союз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4941720"/>
            <a:ext cx="914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дружные коллективы "Успешных городов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"Сказочных домов"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5734080"/>
            <a:ext cx="86533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раскрытие творческого потенциала учащихся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6093000"/>
            <a:ext cx="914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потребность в здоровом образе жизн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392960" y="4581360"/>
            <a:ext cx="1751040" cy="2276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4067280" y="2492280"/>
            <a:ext cx="2290680" cy="3384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250920" y="0"/>
            <a:ext cx="8550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99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</a:t>
            </a:r>
            <a:endParaRPr b="1" i="1" lang="en-US" sz="44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99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99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енического самоуправления.</a:t>
            </a:r>
            <a:endParaRPr b="1" i="1" lang="en-US" sz="44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99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2060640"/>
            <a:ext cx="3961080" cy="576360"/>
          </a:xfrm>
          <a:prstGeom prst="flowChartProcess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4005360"/>
            <a:ext cx="3961080" cy="647640"/>
          </a:xfrm>
          <a:prstGeom prst="flowChartProcess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5950080"/>
            <a:ext cx="3961080" cy="718920"/>
          </a:xfrm>
          <a:prstGeom prst="flowChartProcess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68640"/>
            <a:ext cx="3095640" cy="576360"/>
          </a:xfrm>
          <a:prstGeom prst="flowChartProcess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1268280"/>
            <a:ext cx="3095640" cy="576360"/>
          </a:xfrm>
          <a:prstGeom prst="flowChartProcess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941720"/>
            <a:ext cx="3095640" cy="576360"/>
          </a:xfrm>
          <a:prstGeom prst="flowChartProcess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84360" y="5589720"/>
            <a:ext cx="0" cy="433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458136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84360" y="263700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31640" y="5516640"/>
            <a:ext cx="431640" cy="433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692360" y="2637000"/>
            <a:ext cx="358560" cy="433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5516640"/>
            <a:ext cx="360360" cy="433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43280" y="2637000"/>
            <a:ext cx="36036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581360"/>
            <a:ext cx="28764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987280" y="4581360"/>
            <a:ext cx="36036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84360" y="364464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131640" y="3644640"/>
            <a:ext cx="28764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403280" y="3644640"/>
            <a:ext cx="21600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11640" y="2637000"/>
            <a:ext cx="0" cy="1368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2637000"/>
            <a:ext cx="0" cy="1368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484360" y="1844280"/>
            <a:ext cx="0" cy="144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332000" y="1844640"/>
            <a:ext cx="287280" cy="21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3347640" y="1844640"/>
            <a:ext cx="360360" cy="21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24360" y="5950080"/>
            <a:ext cx="2664000" cy="574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4005360"/>
            <a:ext cx="2663640" cy="574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6000" y="2060640"/>
            <a:ext cx="2663640" cy="574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093080" y="4581360"/>
            <a:ext cx="0" cy="1368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093080" y="2636640"/>
            <a:ext cx="0" cy="136836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11280" y="5950080"/>
            <a:ext cx="3816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3333cc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Д/объединение "Дружное братство"</a:t>
            </a:r>
            <a:endParaRPr b="0" lang="en-US" sz="24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71640" y="6237360"/>
            <a:ext cx="31338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3333cc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Игра "Сказочный дом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3333cc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1 - 4 класс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42920" y="4941720"/>
            <a:ext cx="28195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3333cc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Сказочный сов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3333cc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(младшие вожатые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6920" y="4076640"/>
            <a:ext cx="34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3333cc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Д/объединение "Статус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3333cc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Игра "Успешный город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3333cc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5 - 7 класс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692360" y="3141720"/>
            <a:ext cx="1762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3333cc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Совет мэр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42920" y="2060640"/>
            <a:ext cx="2924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3333cc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Молодежные парт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3333cc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(8 - 11 класс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87280" y="1268280"/>
            <a:ext cx="26481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3333cc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Молодежный сою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3333cc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"Дорога к успеху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84720" y="5950080"/>
            <a:ext cx="1872000" cy="54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cccc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"/>
              </a:rPr>
              <a:t>До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ccccff"/>
                  </a:gs>
                  <a:gs pos="100000">
                    <a:srgbClr val="3333c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cccc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"/>
              </a:rPr>
              <a:t>(Семь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ccccff"/>
                  </a:gs>
                  <a:gs pos="100000">
                    <a:srgbClr val="3333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227640" y="4076640"/>
            <a:ext cx="1729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cccc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"/>
              </a:rPr>
              <a:t>Горо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ccccff"/>
                  </a:gs>
                  <a:gs pos="100000">
                    <a:srgbClr val="3333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84720" y="2133720"/>
            <a:ext cx="2159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cccc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"/>
              </a:rPr>
              <a:t>Государств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ccccff"/>
                  </a:gs>
                  <a:gs pos="100000">
                    <a:srgbClr val="3333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395280" y="5338800"/>
            <a:ext cx="813420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356000" y="5516640"/>
            <a:ext cx="4471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. вожатая МОУ СОШ п. Агириш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оицкая В. В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>
            <a:off x="0" y="3254400"/>
            <a:ext cx="3708360" cy="3603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48555E-006 L 0.00417 -0.7452 E">
                                      <p:cBhvr>
                                        <p:cTn id="451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50920" y="260280"/>
            <a:ext cx="388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программы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125360"/>
            <a:ext cx="8424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воспитание успешного современного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человека, обладающего развитым чуством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66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тветственности за судьбу своей Родины.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66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220500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2924280"/>
            <a:ext cx="8539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- познакомить с понятиями: "успех", "успешный человек", 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успешный коллектив", "ситуация успеха".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3573360"/>
            <a:ext cx="81439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- сформировать образ успешного современного человека.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3860640"/>
            <a:ext cx="835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- научить ребят анализировать собственную личность, свой коллектив 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и различные социально - психологические ситуации.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4508640"/>
            <a:ext cx="8277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- создать условия, позволяющие накопить конструктивный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пыт ситуации успеха.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920" y="5084640"/>
            <a:ext cx="66675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- формировать активную гражданскую позицию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5445000"/>
            <a:ext cx="7677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- формировать стремление к здоровому образу жизни.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5805360"/>
            <a:ext cx="8424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-раскрытие личностного потенциала детей и подростков через участие 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в социальных проектах, творческих конкурсах, участие 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в ролевых играх, КТД</a:t>
            </a:r>
            <a:endParaRPr b="0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ransition spd="slow"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50920" y="189000"/>
            <a:ext cx="8739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аждое дело успешное - иначе зачем!"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03280" y="5805360"/>
            <a:ext cx="673416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грамма "Дорога к успеху"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1268280"/>
            <a:ext cx="4248000" cy="1944720"/>
          </a:xfrm>
          <a:prstGeom prst="wedgeEllipseCallout">
            <a:avLst>
              <a:gd name="adj1" fmla="val 1120"/>
              <a:gd name="adj2" fmla="val 181347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3213000"/>
            <a:ext cx="3743280" cy="1440000"/>
          </a:xfrm>
          <a:prstGeom prst="wedgeEllipseCallout">
            <a:avLst>
              <a:gd name="adj1" fmla="val -60430"/>
              <a:gd name="adj2" fmla="val 127398"/>
            </a:avLst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3213000"/>
            <a:ext cx="3743280" cy="1440000"/>
          </a:xfrm>
          <a:prstGeom prst="wedgeEllipseCallout">
            <a:avLst>
              <a:gd name="adj1" fmla="val 66750"/>
              <a:gd name="adj2" fmla="val 122324"/>
            </a:avLst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708360" y="1700280"/>
            <a:ext cx="197172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шее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71640" y="3500280"/>
            <a:ext cx="211464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ладшее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156360" y="3500280"/>
            <a:ext cx="194292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ffff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еднее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ffff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3276720" y="38606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2156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128" h="21600">
                <a:moveTo>
                  <a:pt x="2156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128" h="21600">
                <a:moveTo>
                  <a:pt x="18988" y="8224"/>
                </a:moveTo>
                <a:lnTo>
                  <a:pt x="22852" y="8224"/>
                </a:lnTo>
                <a:lnTo>
                  <a:pt x="22852" y="15221"/>
                </a:lnTo>
                <a:lnTo>
                  <a:pt x="24140" y="15221"/>
                </a:lnTo>
                <a:lnTo>
                  <a:pt x="24140" y="16144"/>
                </a:lnTo>
                <a:lnTo>
                  <a:pt x="18988" y="16144"/>
                </a:lnTo>
                <a:lnTo>
                  <a:pt x="18988" y="15221"/>
                </a:lnTo>
                <a:lnTo>
                  <a:pt x="20276" y="15221"/>
                </a:lnTo>
                <a:lnTo>
                  <a:pt x="20276" y="9129"/>
                </a:lnTo>
                <a:lnTo>
                  <a:pt x="18988" y="912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17080" y="38606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2156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128" h="21600">
                <a:moveTo>
                  <a:pt x="2156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128" h="21600">
                <a:moveTo>
                  <a:pt x="18988" y="8224"/>
                </a:moveTo>
                <a:lnTo>
                  <a:pt x="22852" y="8224"/>
                </a:lnTo>
                <a:lnTo>
                  <a:pt x="22852" y="15221"/>
                </a:lnTo>
                <a:lnTo>
                  <a:pt x="24140" y="15221"/>
                </a:lnTo>
                <a:lnTo>
                  <a:pt x="24140" y="16144"/>
                </a:lnTo>
                <a:lnTo>
                  <a:pt x="18988" y="16144"/>
                </a:lnTo>
                <a:lnTo>
                  <a:pt x="18988" y="15221"/>
                </a:lnTo>
                <a:lnTo>
                  <a:pt x="20276" y="15221"/>
                </a:lnTo>
                <a:lnTo>
                  <a:pt x="20276" y="9129"/>
                </a:lnTo>
                <a:lnTo>
                  <a:pt x="18988" y="912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781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2158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164" h="21600">
                <a:moveTo>
                  <a:pt x="2158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164" h="21600">
                <a:moveTo>
                  <a:pt x="19006" y="8224"/>
                </a:moveTo>
                <a:lnTo>
                  <a:pt x="22870" y="8224"/>
                </a:lnTo>
                <a:lnTo>
                  <a:pt x="22870" y="15221"/>
                </a:lnTo>
                <a:lnTo>
                  <a:pt x="24158" y="15221"/>
                </a:lnTo>
                <a:lnTo>
                  <a:pt x="24158" y="16144"/>
                </a:lnTo>
                <a:lnTo>
                  <a:pt x="19006" y="16144"/>
                </a:lnTo>
                <a:lnTo>
                  <a:pt x="19006" y="15221"/>
                </a:lnTo>
                <a:lnTo>
                  <a:pt x="20294" y="15221"/>
                </a:lnTo>
                <a:lnTo>
                  <a:pt x="20294" y="9129"/>
                </a:lnTo>
                <a:lnTo>
                  <a:pt x="19006" y="912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1200240" cy="1913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877080" y="1052640"/>
            <a:ext cx="2054160" cy="201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50920" y="549360"/>
            <a:ext cx="2232000" cy="216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979640" y="404640"/>
            <a:ext cx="5616720" cy="155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Monotype Corsiva"/>
              </a:rPr>
              <a:t>Игра 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Monotype Corsiva"/>
              </a:rPr>
              <a:t>"Сказочный домик"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Monotype Corsiva"/>
              <a:ea typeface="Monotype Corsiva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916280"/>
            <a:ext cx="3384720" cy="151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1916280"/>
            <a:ext cx="3384720" cy="151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437000"/>
            <a:ext cx="3384720" cy="151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4437000"/>
            <a:ext cx="3384720" cy="151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3429000"/>
            <a:ext cx="0" cy="10080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3429000"/>
            <a:ext cx="0" cy="10080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47640" y="2205000"/>
            <a:ext cx="23050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- 2 класс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508720" y="2205000"/>
            <a:ext cx="23716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- 4 класс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19280" y="4869000"/>
            <a:ext cx="230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чимся дружить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64000" y="4869000"/>
            <a:ext cx="27925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ервые в добры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лах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4427640" y="2708280"/>
            <a:ext cx="649080" cy="0"/>
          </a:xfrm>
          <a:prstGeom prst="line">
            <a:avLst/>
          </a:prstGeom>
          <a:ln w="572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59640" y="6597720"/>
            <a:ext cx="684360" cy="260280"/>
          </a:xfrm>
          <a:custGeom>
            <a:avLst/>
            <a:gdLst>
              <a:gd name="textAreaLeft" fmla="*/ 16560 w 684360"/>
              <a:gd name="textAreaRight" fmla="*/ 667800 w 684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6745" h="21600">
                <a:moveTo>
                  <a:pt x="0" y="0"/>
                </a:moveTo>
                <a:lnTo>
                  <a:pt x="56745" y="0"/>
                </a:lnTo>
                <a:lnTo>
                  <a:pt x="56745" y="21600"/>
                </a:lnTo>
                <a:lnTo>
                  <a:pt x="0" y="21600"/>
                </a:lnTo>
                <a:close/>
              </a:path>
              <a:path fill="lightenLess" w="56745" h="21600">
                <a:moveTo>
                  <a:pt x="0" y="0"/>
                </a:moveTo>
                <a:lnTo>
                  <a:pt x="56745" y="0"/>
                </a:lnTo>
                <a:lnTo>
                  <a:pt x="55345" y="1400"/>
                </a:lnTo>
                <a:lnTo>
                  <a:pt x="1400" y="1400"/>
                </a:lnTo>
                <a:close/>
              </a:path>
              <a:path fill="darken" w="56745" h="21600">
                <a:moveTo>
                  <a:pt x="56745" y="0"/>
                </a:moveTo>
                <a:lnTo>
                  <a:pt x="56745" y="21600"/>
                </a:lnTo>
                <a:lnTo>
                  <a:pt x="55345" y="20200"/>
                </a:lnTo>
                <a:lnTo>
                  <a:pt x="55345" y="1400"/>
                </a:lnTo>
                <a:close/>
              </a:path>
              <a:path fill="darkenLess" w="56745" h="21600">
                <a:moveTo>
                  <a:pt x="5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45" y="20200"/>
                </a:lnTo>
                <a:close/>
              </a:path>
              <a:path fill="lighten" w="5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45" h="21600">
                <a:moveTo>
                  <a:pt x="21366" y="3794"/>
                </a:moveTo>
                <a:lnTo>
                  <a:pt x="35379" y="10800"/>
                </a:lnTo>
                <a:lnTo>
                  <a:pt x="21366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24360" y="2997360"/>
            <a:ext cx="1320840" cy="1819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17080" y="0"/>
            <a:ext cx="826920" cy="333360"/>
          </a:xfrm>
          <a:custGeom>
            <a:avLst/>
            <a:gdLst>
              <a:gd name="textAreaLeft" fmla="*/ 21600 w 826920"/>
              <a:gd name="textAreaRight" fmla="*/ 805320 w 826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3546" h="21600">
                <a:moveTo>
                  <a:pt x="0" y="0"/>
                </a:moveTo>
                <a:lnTo>
                  <a:pt x="53546" y="0"/>
                </a:lnTo>
                <a:lnTo>
                  <a:pt x="53546" y="21600"/>
                </a:lnTo>
                <a:lnTo>
                  <a:pt x="0" y="21600"/>
                </a:lnTo>
                <a:close/>
              </a:path>
              <a:path fill="lightenLess" w="53546" h="21600">
                <a:moveTo>
                  <a:pt x="0" y="0"/>
                </a:moveTo>
                <a:lnTo>
                  <a:pt x="53546" y="0"/>
                </a:lnTo>
                <a:lnTo>
                  <a:pt x="52146" y="1400"/>
                </a:lnTo>
                <a:lnTo>
                  <a:pt x="1400" y="1400"/>
                </a:lnTo>
                <a:close/>
              </a:path>
              <a:path fill="darken" w="53546" h="21600">
                <a:moveTo>
                  <a:pt x="53546" y="0"/>
                </a:moveTo>
                <a:lnTo>
                  <a:pt x="53546" y="21600"/>
                </a:lnTo>
                <a:lnTo>
                  <a:pt x="52146" y="20200"/>
                </a:lnTo>
                <a:lnTo>
                  <a:pt x="52146" y="1400"/>
                </a:lnTo>
                <a:close/>
              </a:path>
              <a:path fill="darkenLess" w="53546" h="21600">
                <a:moveTo>
                  <a:pt x="5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46" y="20200"/>
                </a:lnTo>
                <a:close/>
              </a:path>
              <a:path fill="lighten" w="5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340000" y="692280"/>
            <a:ext cx="4537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005e00"/>
                    </a:gs>
                    <a:gs pos="50000">
                      <a:srgbClr val="00cc00"/>
                    </a:gs>
                    <a:gs pos="100000">
                      <a:srgbClr val="005e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идаемый результат:</a:t>
            </a:r>
            <a:endParaRPr b="0" lang="en-US" sz="24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005e00"/>
                  </a:gs>
                  <a:gs pos="50000">
                    <a:srgbClr val="00cc00"/>
                  </a:gs>
                  <a:gs pos="100000">
                    <a:srgbClr val="005e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76360" y="1628640"/>
            <a:ext cx="6264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обретение чувства уверенности в себе;</a:t>
            </a:r>
            <a:endParaRPr b="0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умение поддерживать других;</a:t>
            </a:r>
            <a:endParaRPr b="0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осознание ответственности за свои поступки;</a:t>
            </a:r>
            <a:endParaRPr b="0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расширение представлений о себе, своих возможностях;</a:t>
            </a:r>
            <a:endParaRPr b="0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76360" y="3068640"/>
            <a:ext cx="619128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умение распределять обязанности и действовать в коллективе;</a:t>
            </a:r>
            <a:endParaRPr b="0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тремление использовать свои умения на радость близких;</a:t>
            </a:r>
            <a:endParaRPr b="0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47640" y="3789360"/>
            <a:ext cx="612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умение общаться друг с другом, уважительно </a:t>
            </a:r>
            <a:endParaRPr b="0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носиться к мнению своих друзей, взрослых;</a:t>
            </a:r>
            <a:endParaRPr b="0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приобретение опыта активного сопереживания</a:t>
            </a:r>
            <a:endParaRPr b="0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 результат в общем деле;</a:t>
            </a:r>
            <a:endParaRPr b="0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76360" y="5013360"/>
            <a:ext cx="59054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появление дружных коллективов "Сказочных домов".</a:t>
            </a:r>
            <a:endParaRPr b="0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8360" y="6597720"/>
            <a:ext cx="755640" cy="260280"/>
          </a:xfrm>
          <a:custGeom>
            <a:avLst/>
            <a:gdLst>
              <a:gd name="textAreaLeft" fmla="*/ 16560 w 755640"/>
              <a:gd name="textAreaRight" fmla="*/ 739080 w 755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2652" h="21600">
                <a:moveTo>
                  <a:pt x="0" y="0"/>
                </a:moveTo>
                <a:lnTo>
                  <a:pt x="62652" y="0"/>
                </a:lnTo>
                <a:lnTo>
                  <a:pt x="62652" y="21600"/>
                </a:lnTo>
                <a:lnTo>
                  <a:pt x="0" y="21600"/>
                </a:lnTo>
                <a:close/>
              </a:path>
              <a:path fill="lightenLess" w="62652" h="21600">
                <a:moveTo>
                  <a:pt x="0" y="0"/>
                </a:moveTo>
                <a:lnTo>
                  <a:pt x="62652" y="0"/>
                </a:lnTo>
                <a:lnTo>
                  <a:pt x="61252" y="1400"/>
                </a:lnTo>
                <a:lnTo>
                  <a:pt x="1400" y="1400"/>
                </a:lnTo>
                <a:close/>
              </a:path>
              <a:path fill="darken" w="62652" h="21600">
                <a:moveTo>
                  <a:pt x="62652" y="0"/>
                </a:moveTo>
                <a:lnTo>
                  <a:pt x="62652" y="21600"/>
                </a:lnTo>
                <a:lnTo>
                  <a:pt x="61252" y="20200"/>
                </a:lnTo>
                <a:lnTo>
                  <a:pt x="61252" y="1400"/>
                </a:lnTo>
                <a:close/>
              </a:path>
              <a:path fill="darkenLess" w="62652" h="21600">
                <a:moveTo>
                  <a:pt x="62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52" y="20200"/>
                </a:lnTo>
                <a:close/>
              </a:path>
              <a:path fill="lighten" w="62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652" h="21600">
                <a:moveTo>
                  <a:pt x="24319" y="7493"/>
                </a:moveTo>
                <a:lnTo>
                  <a:pt x="27827" y="7493"/>
                </a:lnTo>
                <a:lnTo>
                  <a:pt x="27827" y="12828"/>
                </a:lnTo>
                <a:cubicBezTo>
                  <a:pt x="27827" y="13751"/>
                  <a:pt x="28628" y="14482"/>
                  <a:pt x="29664" y="14482"/>
                </a:cubicBezTo>
                <a:lnTo>
                  <a:pt x="31326" y="14482"/>
                </a:lnTo>
                <a:cubicBezTo>
                  <a:pt x="32362" y="14482"/>
                  <a:pt x="33162" y="13751"/>
                  <a:pt x="33162" y="12828"/>
                </a:cubicBezTo>
                <a:lnTo>
                  <a:pt x="33162" y="7493"/>
                </a:lnTo>
                <a:lnTo>
                  <a:pt x="31326" y="7493"/>
                </a:lnTo>
                <a:lnTo>
                  <a:pt x="34834" y="3985"/>
                </a:lnTo>
                <a:lnTo>
                  <a:pt x="38507" y="7493"/>
                </a:lnTo>
                <a:lnTo>
                  <a:pt x="36670" y="7493"/>
                </a:lnTo>
                <a:lnTo>
                  <a:pt x="36670" y="12828"/>
                </a:lnTo>
                <a:cubicBezTo>
                  <a:pt x="36670" y="15596"/>
                  <a:pt x="34094" y="18155"/>
                  <a:pt x="31326" y="18155"/>
                </a:cubicBezTo>
                <a:lnTo>
                  <a:pt x="29664" y="18155"/>
                </a:lnTo>
                <a:cubicBezTo>
                  <a:pt x="26896" y="18155"/>
                  <a:pt x="24319" y="15596"/>
                  <a:pt x="24319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276560" cy="177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3820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378560" y="0"/>
            <a:ext cx="1765440" cy="1741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971640" y="189000"/>
            <a:ext cx="7345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гра "Успешный город"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(5 - 7 кл.)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1484280"/>
            <a:ext cx="3382920" cy="7207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1484280"/>
            <a:ext cx="3382920" cy="7207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708280"/>
            <a:ext cx="2232000" cy="647640"/>
          </a:xfrm>
          <a:prstGeom prst="wedgeRectCallout">
            <a:avLst>
              <a:gd name="adj1" fmla="val 129870"/>
              <a:gd name="adj2" fmla="val -144851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2708280"/>
            <a:ext cx="2232000" cy="647640"/>
          </a:xfrm>
          <a:prstGeom prst="wedgeRectCallout">
            <a:avLst>
              <a:gd name="adj1" fmla="val -139333"/>
              <a:gd name="adj2" fmla="val -147060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013360"/>
            <a:ext cx="2232000" cy="647640"/>
          </a:xfrm>
          <a:prstGeom prst="wedgeRectCallout">
            <a:avLst>
              <a:gd name="adj1" fmla="val 133782"/>
              <a:gd name="adj2" fmla="val -496569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860640"/>
            <a:ext cx="2232000" cy="648000"/>
          </a:xfrm>
          <a:prstGeom prst="wedgeRectCallout">
            <a:avLst>
              <a:gd name="adj1" fmla="val 135064"/>
              <a:gd name="adj2" fmla="val -326472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5084640"/>
            <a:ext cx="2232000" cy="648000"/>
          </a:xfrm>
          <a:prstGeom prst="wedgeRectCallout">
            <a:avLst>
              <a:gd name="adj1" fmla="val -149787"/>
              <a:gd name="adj2" fmla="val -52352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2720" y="3860640"/>
            <a:ext cx="2232000" cy="648000"/>
          </a:xfrm>
          <a:prstGeom prst="wedgeRectCallout">
            <a:avLst>
              <a:gd name="adj1" fmla="val -145875"/>
              <a:gd name="adj2" fmla="val -335296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6210360"/>
            <a:ext cx="2232000" cy="647640"/>
          </a:xfrm>
          <a:prstGeom prst="wedgeRectCallout">
            <a:avLst>
              <a:gd name="adj1" fmla="val -9245"/>
              <a:gd name="adj2" fmla="val -691666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5013360"/>
            <a:ext cx="2232000" cy="647640"/>
          </a:xfrm>
          <a:prstGeom prst="wedgeRectCallout">
            <a:avLst>
              <a:gd name="adj1" fmla="val -11236"/>
              <a:gd name="adj2" fmla="val -505638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3860640"/>
            <a:ext cx="2232000" cy="648000"/>
          </a:xfrm>
          <a:prstGeom prst="wedgeRectCallout">
            <a:avLst>
              <a:gd name="adj1" fmla="val -10597"/>
              <a:gd name="adj2" fmla="val -339703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2781360"/>
            <a:ext cx="2232000" cy="647640"/>
          </a:xfrm>
          <a:prstGeom prst="wedgeRectCallout">
            <a:avLst>
              <a:gd name="adj1" fmla="val 425"/>
              <a:gd name="adj2" fmla="val -158333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42920" y="1557360"/>
            <a:ext cx="23767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00cc99">
                    <a:alpha val="50000"/>
                  </a:srgbClr>
                </a:solidFill>
                <a:latin typeface="Arial"/>
              </a:rPr>
              <a:t>Город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00cc99">
                  <a:alpha val="50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00cc99">
                    <a:alpha val="50000"/>
                  </a:srgbClr>
                </a:solidFill>
                <a:latin typeface="Arial"/>
              </a:rPr>
              <a:t>(класс)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00cc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580000" y="1557360"/>
            <a:ext cx="2521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00cc99">
                    <a:alpha val="50000"/>
                  </a:srgbClr>
                </a:solidFill>
                <a:latin typeface="Arial"/>
              </a:rPr>
              <a:t>Мэрия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00cc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95640" y="1844640"/>
            <a:ext cx="108108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2781360"/>
            <a:ext cx="2017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ба МЧС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492360" y="2852640"/>
            <a:ext cx="201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ржа труда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04000" y="2781360"/>
            <a:ext cx="201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ба здоровья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3933720"/>
            <a:ext cx="19494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ба порядка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140360" y="3933720"/>
            <a:ext cx="7999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Д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04000" y="3933720"/>
            <a:ext cx="2016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ба образования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5084640"/>
            <a:ext cx="19288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казочный совет"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635280" y="5084640"/>
            <a:ext cx="194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ба связи "МТС"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04000" y="5157720"/>
            <a:ext cx="20113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ба СМИ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635280" y="6237360"/>
            <a:ext cx="19195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ба городского банка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8459640" y="6597720"/>
            <a:ext cx="684360" cy="260280"/>
          </a:xfrm>
          <a:custGeom>
            <a:avLst/>
            <a:gdLst>
              <a:gd name="textAreaLeft" fmla="*/ 16560 w 684360"/>
              <a:gd name="textAreaRight" fmla="*/ 667800 w 684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6745" h="21600">
                <a:moveTo>
                  <a:pt x="0" y="0"/>
                </a:moveTo>
                <a:lnTo>
                  <a:pt x="56745" y="0"/>
                </a:lnTo>
                <a:lnTo>
                  <a:pt x="56745" y="21600"/>
                </a:lnTo>
                <a:lnTo>
                  <a:pt x="0" y="21600"/>
                </a:lnTo>
                <a:close/>
              </a:path>
              <a:path fill="lightenLess" w="56745" h="21600">
                <a:moveTo>
                  <a:pt x="0" y="0"/>
                </a:moveTo>
                <a:lnTo>
                  <a:pt x="56745" y="0"/>
                </a:lnTo>
                <a:lnTo>
                  <a:pt x="55345" y="1400"/>
                </a:lnTo>
                <a:lnTo>
                  <a:pt x="1400" y="1400"/>
                </a:lnTo>
                <a:close/>
              </a:path>
              <a:path fill="darken" w="56745" h="21600">
                <a:moveTo>
                  <a:pt x="56745" y="0"/>
                </a:moveTo>
                <a:lnTo>
                  <a:pt x="56745" y="21600"/>
                </a:lnTo>
                <a:lnTo>
                  <a:pt x="55345" y="20200"/>
                </a:lnTo>
                <a:lnTo>
                  <a:pt x="55345" y="1400"/>
                </a:lnTo>
                <a:close/>
              </a:path>
              <a:path fill="darkenLess" w="56745" h="21600">
                <a:moveTo>
                  <a:pt x="5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45" y="20200"/>
                </a:lnTo>
                <a:close/>
              </a:path>
              <a:path fill="lighten" w="5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45" h="21600">
                <a:moveTo>
                  <a:pt x="21366" y="3794"/>
                </a:moveTo>
                <a:lnTo>
                  <a:pt x="35379" y="10800"/>
                </a:lnTo>
                <a:lnTo>
                  <a:pt x="2136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4000" y="5692680"/>
            <a:ext cx="2232000" cy="1165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885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627280" y="189000"/>
            <a:ext cx="379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99192" dir="18581945" blurRad="0" rotWithShape="0">
                    <a:srgbClr val="990000"/>
                  </a:outerShdw>
                </a:effectLst>
                <a:latin typeface="Impact"/>
              </a:rPr>
              <a:t>Этапы игры: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99192" dir="18581945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700280"/>
            <a:ext cx="3384360" cy="230652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1628640"/>
            <a:ext cx="3384720" cy="237816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4221000"/>
            <a:ext cx="3456000" cy="2378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55640" y="2421000"/>
            <a:ext cx="247032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63504" dir="19383909" blurRad="0" rotWithShape="0">
                    <a:srgbClr val="990000"/>
                  </a:outerShdw>
                </a:effectLst>
                <a:latin typeface="Impact"/>
              </a:rPr>
              <a:t>"Город,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63504" dir="19383909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63504" dir="19383909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63504" dir="19383909" blurRad="0" rotWithShape="0">
                    <a:srgbClr val="990000"/>
                  </a:outerShdw>
                </a:effectLst>
                <a:latin typeface="Impact"/>
              </a:rPr>
              <a:t>которы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63504" dir="19383909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63504" dir="19383909" blurRad="0" rotWithShape="0">
                    <a:srgbClr val="990000"/>
                  </a:outerShdw>
                </a:effectLst>
                <a:latin typeface="Impact"/>
              </a:rPr>
              <a:t>  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63504" dir="19383909" blurRad="0" rotWithShape="0">
                    <a:srgbClr val="990000"/>
                  </a:outerShdw>
                </a:effectLst>
                <a:latin typeface="Impact"/>
              </a:rPr>
              <a:t>построим сами"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63504" dir="19383909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580000" y="2781360"/>
            <a:ext cx="2376720" cy="11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63504" dir="18416092" blurRad="0" rotWithShape="0">
                    <a:srgbClr val="990000"/>
                  </a:outerShdw>
                </a:effectLst>
                <a:latin typeface="Impact"/>
              </a:rPr>
              <a:t>"Успешному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63504" dir="18416092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63504" dir="18416092" blurRad="0" rotWithShape="0">
                    <a:srgbClr val="990000"/>
                  </a:outerShdw>
                </a:effectLst>
                <a:latin typeface="Impact"/>
              </a:rPr>
              <a:t>городу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63504" dir="18416092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63504" dir="18416092" blurRad="0" rotWithShape="0">
                    <a:srgbClr val="990000"/>
                  </a:outerShdw>
                </a:effectLst>
                <a:latin typeface="Impact"/>
              </a:rPr>
              <a:t>- успешные дела"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63504" dir="18416092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348000" y="5589720"/>
            <a:ext cx="19558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53966" dir="18900000" blurRad="0" rotWithShape="0">
                    <a:srgbClr val="990000"/>
                  </a:outerShdw>
                </a:effectLst>
                <a:latin typeface="Impact"/>
              </a:rPr>
              <a:t>"Успешны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53966" dir="189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53966" dir="189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53966" dir="18900000" blurRad="0" rotWithShape="0">
                    <a:srgbClr val="990000"/>
                  </a:outerShdw>
                </a:effectLst>
                <a:latin typeface="Impact"/>
              </a:rPr>
              <a:t>город"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53966" dir="189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 rot="7696200">
            <a:off x="2770920" y="2060280"/>
            <a:ext cx="1800360" cy="647640"/>
          </a:xfrm>
          <a:custGeom>
            <a:avLst/>
            <a:gdLst>
              <a:gd name="textAreaLeft" fmla="*/ 225000 w 1800360"/>
              <a:gd name="textAreaRight" fmla="*/ 1575360 w 1800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193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3108000">
            <a:off x="4182840" y="2044440"/>
            <a:ext cx="1800360" cy="648000"/>
          </a:xfrm>
          <a:custGeom>
            <a:avLst/>
            <a:gdLst>
              <a:gd name="textAreaLeft" fmla="*/ 225000 w 1800360"/>
              <a:gd name="textAreaRight" fmla="*/ 1575360 w 180036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22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382920" y="2673360"/>
            <a:ext cx="1943280" cy="574560"/>
          </a:xfrm>
          <a:custGeom>
            <a:avLst/>
            <a:gdLst>
              <a:gd name="textAreaLeft" fmla="*/ 242640 w 1943280"/>
              <a:gd name="textAreaRight" fmla="*/ 1700640 w 1943280"/>
              <a:gd name="textAreaTop" fmla="*/ 143640 h 574560"/>
              <a:gd name="textAreaBottom" fmla="*/ 430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59640" y="6597720"/>
            <a:ext cx="684360" cy="260280"/>
          </a:xfrm>
          <a:custGeom>
            <a:avLst/>
            <a:gdLst>
              <a:gd name="textAreaLeft" fmla="*/ 16560 w 684360"/>
              <a:gd name="textAreaRight" fmla="*/ 667800 w 684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6745" h="21600">
                <a:moveTo>
                  <a:pt x="0" y="0"/>
                </a:moveTo>
                <a:lnTo>
                  <a:pt x="56745" y="0"/>
                </a:lnTo>
                <a:lnTo>
                  <a:pt x="56745" y="21600"/>
                </a:lnTo>
                <a:lnTo>
                  <a:pt x="0" y="21600"/>
                </a:lnTo>
                <a:close/>
              </a:path>
              <a:path fill="lightenLess" w="56745" h="21600">
                <a:moveTo>
                  <a:pt x="0" y="0"/>
                </a:moveTo>
                <a:lnTo>
                  <a:pt x="56745" y="0"/>
                </a:lnTo>
                <a:lnTo>
                  <a:pt x="55345" y="1400"/>
                </a:lnTo>
                <a:lnTo>
                  <a:pt x="1400" y="1400"/>
                </a:lnTo>
                <a:close/>
              </a:path>
              <a:path fill="darken" w="56745" h="21600">
                <a:moveTo>
                  <a:pt x="56745" y="0"/>
                </a:moveTo>
                <a:lnTo>
                  <a:pt x="56745" y="21600"/>
                </a:lnTo>
                <a:lnTo>
                  <a:pt x="55345" y="20200"/>
                </a:lnTo>
                <a:lnTo>
                  <a:pt x="55345" y="1400"/>
                </a:lnTo>
                <a:close/>
              </a:path>
              <a:path fill="darkenLess" w="56745" h="21600">
                <a:moveTo>
                  <a:pt x="5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45" y="20200"/>
                </a:lnTo>
                <a:close/>
              </a:path>
              <a:path fill="lighten" w="5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45" h="21600">
                <a:moveTo>
                  <a:pt x="21366" y="7493"/>
                </a:moveTo>
                <a:lnTo>
                  <a:pt x="24873" y="7493"/>
                </a:lnTo>
                <a:lnTo>
                  <a:pt x="24873" y="12828"/>
                </a:lnTo>
                <a:cubicBezTo>
                  <a:pt x="24873" y="13751"/>
                  <a:pt x="25674" y="14482"/>
                  <a:pt x="26710" y="14482"/>
                </a:cubicBezTo>
                <a:lnTo>
                  <a:pt x="28372" y="14482"/>
                </a:lnTo>
                <a:cubicBezTo>
                  <a:pt x="29408" y="14482"/>
                  <a:pt x="30209" y="13751"/>
                  <a:pt x="30209" y="12828"/>
                </a:cubicBezTo>
                <a:lnTo>
                  <a:pt x="30209" y="7493"/>
                </a:lnTo>
                <a:lnTo>
                  <a:pt x="28372" y="7493"/>
                </a:lnTo>
                <a:lnTo>
                  <a:pt x="31880" y="3985"/>
                </a:lnTo>
                <a:lnTo>
                  <a:pt x="35553" y="7493"/>
                </a:lnTo>
                <a:lnTo>
                  <a:pt x="33716" y="7493"/>
                </a:lnTo>
                <a:lnTo>
                  <a:pt x="33716" y="12828"/>
                </a:lnTo>
                <a:cubicBezTo>
                  <a:pt x="33716" y="15596"/>
                  <a:pt x="31140" y="18155"/>
                  <a:pt x="28372" y="18155"/>
                </a:cubicBezTo>
                <a:lnTo>
                  <a:pt x="26710" y="18155"/>
                </a:lnTo>
                <a:cubicBezTo>
                  <a:pt x="23942" y="18155"/>
                  <a:pt x="21366" y="15596"/>
                  <a:pt x="21366" y="12828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50920" y="4581360"/>
            <a:ext cx="2305080" cy="2063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227640" y="4581360"/>
            <a:ext cx="2465640" cy="1837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057400" cy="1771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692360" y="189000"/>
            <a:ext cx="59626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ежный союз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Дорога к успеху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2060640"/>
            <a:ext cx="302436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33"/>
              </a:gs>
              <a:gs pos="50000">
                <a:srgbClr val="ffffff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5084640"/>
            <a:ext cx="302436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33"/>
              </a:gs>
              <a:gs pos="50000">
                <a:srgbClr val="ffffff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3500280"/>
            <a:ext cx="302436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33"/>
              </a:gs>
              <a:gs pos="50000">
                <a:srgbClr val="ffffff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1916280"/>
            <a:ext cx="302436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33"/>
              </a:gs>
              <a:gs pos="50000">
                <a:srgbClr val="ffffff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5640" y="2781360"/>
            <a:ext cx="1866960" cy="60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993300"/>
                  </a:outerShdw>
                </a:effectLst>
                <a:latin typeface="Book Antiqua"/>
              </a:rPr>
              <a:t>Партия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9933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71640" y="5805360"/>
            <a:ext cx="1419120" cy="60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993300"/>
                  </a:outerShdw>
                </a:effectLst>
                <a:latin typeface="Book Antiqua"/>
              </a:rPr>
              <a:t>Класс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9933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80000" y="4221000"/>
            <a:ext cx="1581120" cy="60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993300"/>
                  </a:outerShdw>
                </a:effectLst>
                <a:latin typeface="Book Antiqua"/>
              </a:rPr>
              <a:t>Лидер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9933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156360" y="2637000"/>
            <a:ext cx="2548080" cy="512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993300"/>
                  </a:outerShdw>
                </a:effectLst>
                <a:latin typeface="Book Antiqua"/>
              </a:rPr>
              <a:t>Программ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9933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079280" y="4112640"/>
            <a:ext cx="1368360" cy="432000"/>
          </a:xfrm>
          <a:prstGeom prst="leftRightArrow">
            <a:avLst>
              <a:gd name="adj1" fmla="val 50000"/>
              <a:gd name="adj2" fmla="val 63057"/>
            </a:avLst>
          </a:prstGeom>
          <a:gradFill rotWithShape="0">
            <a:gsLst>
              <a:gs pos="0">
                <a:srgbClr val="ffffff"/>
              </a:gs>
              <a:gs pos="50000">
                <a:srgbClr val="ccff33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2484000" y="4437000"/>
            <a:ext cx="647640" cy="649440"/>
          </a:xfrm>
          <a:custGeom>
            <a:avLst/>
            <a:gdLst>
              <a:gd name="textAreaLeft" fmla="*/ 185760 w 647640"/>
              <a:gd name="textAreaRight" fmla="*/ 554760 w 647640"/>
              <a:gd name="textAreaTop" fmla="*/ 374040 h 649440"/>
              <a:gd name="textAreaBottom" fmla="*/ 5562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5292360" y="2852640"/>
            <a:ext cx="647640" cy="649440"/>
          </a:xfrm>
          <a:custGeom>
            <a:avLst/>
            <a:gdLst>
              <a:gd name="textAreaLeft" fmla="*/ 185760 w 647640"/>
              <a:gd name="textAreaRight" fmla="*/ 554760 w 647640"/>
              <a:gd name="textAreaTop" fmla="*/ 374040 h 649440"/>
              <a:gd name="textAreaBottom" fmla="*/ 5562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537240" y="4292640"/>
            <a:ext cx="2214720" cy="2319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"/>
                            </p:stCondLst>
                            <p:childTnLst>
                              <p:par>
                                <p:cTn id="3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9966 L 0.00017 0.43515 E">
                                      <p:cBhvr>
                                        <p:cTn id="365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6104 L 0.00035 0.39676 E">
                                      <p:cBhvr>
                                        <p:cTn id="367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500"/>
                            </p:stCondLst>
                            <p:childTnLst>
                              <p:par>
                                <p:cTn id="3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2195640" y="189000"/>
            <a:ext cx="50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тапы конкурса: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268280"/>
            <a:ext cx="2808360" cy="151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141720"/>
            <a:ext cx="280800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5084640"/>
            <a:ext cx="2808360" cy="151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1268280"/>
            <a:ext cx="2808360" cy="151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5084640"/>
            <a:ext cx="2808000" cy="151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2556000" y="4221000"/>
            <a:ext cx="576000" cy="720720"/>
          </a:xfrm>
          <a:custGeom>
            <a:avLst/>
            <a:gdLst>
              <a:gd name="textAreaLeft" fmla="*/ 165240 w 576000"/>
              <a:gd name="textAreaRight" fmla="*/ 493560 w 576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5435280" y="2276640"/>
            <a:ext cx="576360" cy="720720"/>
          </a:xfrm>
          <a:custGeom>
            <a:avLst/>
            <a:gdLst>
              <a:gd name="textAreaLeft" fmla="*/ 165240 w 576360"/>
              <a:gd name="textAreaRight" fmla="*/ 493920 w 57636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rot="10800000">
            <a:off x="3132000" y="2276640"/>
            <a:ext cx="720720" cy="720720"/>
          </a:xfrm>
          <a:custGeom>
            <a:avLst/>
            <a:gdLst>
              <a:gd name="textAreaLeft" fmla="*/ 240120 w 720720"/>
              <a:gd name="textAreaRight" fmla="*/ 617400 w 72072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rot="10800000">
            <a:off x="6156360" y="4221000"/>
            <a:ext cx="720720" cy="720720"/>
          </a:xfrm>
          <a:custGeom>
            <a:avLst/>
            <a:gdLst>
              <a:gd name="textAreaLeft" fmla="*/ 240120 w 720720"/>
              <a:gd name="textAreaRight" fmla="*/ 617400 w 72072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773360"/>
            <a:ext cx="2448000" cy="10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Шаг в успех"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4000" y="3860640"/>
            <a:ext cx="2176560" cy="335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Формул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спех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27640" y="1557360"/>
            <a:ext cx="255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Герой наше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ремени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5157720"/>
            <a:ext cx="242892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Ситуац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спех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443640" y="5791320"/>
            <a:ext cx="203040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ара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лодежн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артий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1942920" cy="1817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948360" y="2997360"/>
            <a:ext cx="1943280" cy="1817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3708360" y="4797360"/>
            <a:ext cx="1943280" cy="1817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6597720"/>
            <a:ext cx="755640" cy="260280"/>
          </a:xfrm>
          <a:custGeom>
            <a:avLst/>
            <a:gdLst>
              <a:gd name="textAreaLeft" fmla="*/ 16560 w 755640"/>
              <a:gd name="textAreaRight" fmla="*/ 739080 w 755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2652" h="21600">
                <a:moveTo>
                  <a:pt x="0" y="0"/>
                </a:moveTo>
                <a:lnTo>
                  <a:pt x="62652" y="0"/>
                </a:lnTo>
                <a:lnTo>
                  <a:pt x="62652" y="21600"/>
                </a:lnTo>
                <a:lnTo>
                  <a:pt x="0" y="21600"/>
                </a:lnTo>
                <a:close/>
              </a:path>
              <a:path fill="lightenLess" w="62652" h="21600">
                <a:moveTo>
                  <a:pt x="0" y="0"/>
                </a:moveTo>
                <a:lnTo>
                  <a:pt x="62652" y="0"/>
                </a:lnTo>
                <a:lnTo>
                  <a:pt x="61252" y="1400"/>
                </a:lnTo>
                <a:lnTo>
                  <a:pt x="1400" y="1400"/>
                </a:lnTo>
                <a:close/>
              </a:path>
              <a:path fill="darken" w="62652" h="21600">
                <a:moveTo>
                  <a:pt x="62652" y="0"/>
                </a:moveTo>
                <a:lnTo>
                  <a:pt x="62652" y="21600"/>
                </a:lnTo>
                <a:lnTo>
                  <a:pt x="61252" y="20200"/>
                </a:lnTo>
                <a:lnTo>
                  <a:pt x="61252" y="1400"/>
                </a:lnTo>
                <a:close/>
              </a:path>
              <a:path fill="darkenLess" w="62652" h="21600">
                <a:moveTo>
                  <a:pt x="62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52" y="20200"/>
                </a:lnTo>
                <a:close/>
              </a:path>
              <a:path fill="lighten" w="62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652" h="21600">
                <a:moveTo>
                  <a:pt x="24319" y="3794"/>
                </a:moveTo>
                <a:lnTo>
                  <a:pt x="38332" y="10800"/>
                </a:lnTo>
                <a:lnTo>
                  <a:pt x="24319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100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100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100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10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100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3-21T10:22:51Z</dcterms:modified>
  <cp:revision>10</cp:revision>
  <dc:subject/>
  <dc:title>PowerPoint Presentation</dc:title>
</cp:coreProperties>
</file>